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5.jpeg" ContentType="image/jpeg"/>
  <Override PartName="/ppt/media/image2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468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47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3846600" y="0"/>
            <a:ext cx="3000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934560" y="761760"/>
            <a:ext cx="4977000" cy="373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5"/>
          </p:nvPr>
        </p:nvSpPr>
        <p:spPr>
          <a:xfrm>
            <a:off x="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6"/>
          </p:nvPr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EE44-0846-408F-9666-A70771E52412}" type="slidenum">
              <a:rPr b="0" lang="en-US" sz="1200" spc="-1" strike="noStrike">
                <a:solidFill>
                  <a:srgbClr val="000000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4920" y="762120"/>
            <a:ext cx="4977000" cy="37321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23400" y="4722840"/>
            <a:ext cx="49993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DEA-4962-4864-AB42-431AA933517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741-162A-43E2-A8C8-B06FDD788AF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9278-0358-44D2-A758-2323EF3426F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6A30-B14B-47EC-BA3B-02ADC35297EE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4F95-8B90-4C81-867F-7E4F8F4012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5F1D-478E-4DA7-87B1-D39AA92D3C1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3EC1B-E02F-491B-B742-C83C45087AFB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9CE2-7365-4AF9-81EF-33EF00D79D7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2CAF-0A6A-41DA-925B-8C685D52395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7095-9985-4FEA-B40E-32C324C9578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3A42-3FD0-4418-BD32-E757D39549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EE98-B2E7-48BA-B762-E671D3F6D37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6809B-FFDD-4240-83BE-0F6CD5B7B1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E7B7-2646-4476-8A84-B7BF0D08386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A733-1E37-40E7-8D51-43120627E9E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5E57-C6EB-45BC-BEB5-ACB53A3838B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F763-54D2-4BF5-9DA3-E788BC723DF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F5FB-16C8-4D34-8E41-F83340B4EC7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89C-97DA-46A2-80A1-B2915A614C5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702B-D0AE-4E87-8407-9C0372E9BB1D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8A0C-F471-4C61-9643-D0045F204BA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6B42-16A1-467A-8657-00EDBCCD2E6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13418-D4BB-47A9-A342-B3155270C4D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B03F-0365-4A63-A6AD-29C9D12A83B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7B5D-7A50-40FC-9F35-3E38FBE60F29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E0835-1F6A-451C-96E9-195D6207E26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F329-1C3B-4860-8AAE-E8CB442CCB3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6EA7-9126-4C5F-8440-BA3EEF786E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D2EC-BEAC-4D11-A233-8A3ADD8865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B10E9-81B4-40D4-86EE-D4C46B08F4C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81C3-A783-487F-9656-D6147A3649B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150B-92B1-4FB1-A997-41006CEAC7B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F9E3-4609-43E1-9295-715ECA2DF0A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18DA-5A5B-490B-AF27-C4D68CAC170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E898-FDD7-4345-87C0-3784A08553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18891-87CB-4ED3-AF0C-01557303A16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FC17-260A-4A07-A5C4-C68CAA4CC90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1852-D945-48DD-A0C7-21F32CA68E1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14B0-727D-420E-A318-09A92C45BAD3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05A-73DD-4D2D-BF75-7EECCDB9DA9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DB9-77D8-4BD9-B1A3-981EA0BB76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752F-BDD3-47EF-8476-4FD708701AC8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E440-B731-40B3-BA06-0A24706CB4F1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A83-563B-4447-8055-A5502CB3B9D5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9BCE-E33A-4C58-BCC0-17D7FFBD705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12E-5147-4A64-9DAF-6749303CAC0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2F68-D947-4F37-82DD-CC3E1F4D302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E6EC-8BF6-4FCF-922D-4E6BC1962DFF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65F-FC59-415E-965E-339A66825B1C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C799C-7ED3-487E-AECE-FDD1CB08F270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53B0-2FD9-49C5-B74E-0F221FE16032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43B-58DA-46AA-99EE-20EBB4CF35F4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46600" y="9443880"/>
            <a:ext cx="300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2CB1-BFF5-4AB7-84D2-AF489A265747}" type="slidenum"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258-B697-48A2-A9AE-DCA814C2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6F1-DC3D-4703-A4C2-FDB79C84D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32F-9F78-4AEE-9BE9-EBD6EB8D4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8B6-8B4B-4FAE-B893-C0217FE2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4A33-AC27-4A11-8E8C-E5CF2511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97F-6163-47A9-913A-E14A1DD0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23A-8A3F-4178-BDC2-EA94E4B7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93D1-43B4-41F0-BD22-94E04A3B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17C-000C-4772-9DB5-C245018E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0D9F-69D7-4E03-BD12-46178B25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1985-F216-4335-8025-9AFC766D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D159-B51A-420C-87C1-4D80CA68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4EF9-C78E-4121-A716-F1B3FAC0837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1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1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1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2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2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2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" name="Picture 27" descr="Docs-Presentations-WG-CBSU"/>
          <p:cNvPicPr/>
          <p:nvPr/>
        </p:nvPicPr>
        <p:blipFill>
          <a:blip r:embed="rId2"/>
          <a:stretch/>
        </p:blipFill>
        <p:spPr>
          <a:xfrm>
            <a:off x="7308720" y="6381720"/>
            <a:ext cx="1182960" cy="351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SpssBonferroni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380880" y="2286000"/>
            <a:ext cx="830592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0099cc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StatsCourse201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2" name="Object 4"/>
          <p:cNvGraphicFramePr/>
          <p:nvPr/>
        </p:nvGraphicFramePr>
        <p:xfrm>
          <a:off x="1752480" y="1981080"/>
          <a:ext cx="547380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81080"/>
                    <a:ext cx="547380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17" name="Object 1029"/>
          <p:cNvGraphicFramePr/>
          <p:nvPr/>
        </p:nvGraphicFramePr>
        <p:xfrm>
          <a:off x="1905120" y="1981080"/>
          <a:ext cx="54734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981080"/>
                    <a:ext cx="54734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76320"/>
            <a:ext cx="7792920" cy="16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Standard Errors of the Differences</a:t>
            </a:r>
            <a:br>
              <a:rPr sz="3200"/>
            </a:b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ttp://seriousstats.wordpress.com/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0" name="Text Box 1028"/>
          <p:cNvSpPr/>
          <p:nvPr/>
        </p:nvSpPr>
        <p:spPr>
          <a:xfrm>
            <a:off x="3184560" y="1981080"/>
            <a:ext cx="306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s +/- 1 S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3" name="Object 1029"/>
          <p:cNvGraphicFramePr/>
          <p:nvPr/>
        </p:nvGraphicFramePr>
        <p:xfrm>
          <a:off x="2057400" y="2057400"/>
          <a:ext cx="5543640" cy="42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057400"/>
                    <a:ext cx="5543640" cy="42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Plotting 95% Confidence Intevals of Differenc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" name="Text Box 1028"/>
          <p:cNvSpPr/>
          <p:nvPr/>
        </p:nvSpPr>
        <p:spPr>
          <a:xfrm>
            <a:off x="2286000" y="213372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eans +/- 95% CI for Differences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Multiple 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t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-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4248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6546600" cy="3895560"/>
          </a:xfrm>
          <a:prstGeom prst="rect">
            <a:avLst/>
          </a:prstGeom>
          <a:ln w="0">
            <a:noFill/>
          </a:ln>
        </p:spPr>
      </p:pic>
      <p:sp>
        <p:nvSpPr>
          <p:cNvPr id="136" name="Line 6"/>
          <p:cNvSpPr/>
          <p:nvPr/>
        </p:nvSpPr>
        <p:spPr>
          <a:xfrm flipH="1" flipV="1">
            <a:off x="6019920" y="5715000"/>
            <a:ext cx="1218960" cy="7632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292880" y="5562720"/>
            <a:ext cx="11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826320" y="2819520"/>
            <a:ext cx="1789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&gt;L,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&gt;P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all p&lt;.05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914400" y="5562720"/>
            <a:ext cx="4989600" cy="152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: ‘LSD’</a:t>
            </a: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ptio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problem with doing several null-hypothesis 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test is watching out for a rare event with prevalence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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[Type I Error Rate]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more tests you do the more likely you are to observe a rare eve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f there are N tests of Size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then the expected number of Type I Errors is N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31480" indent="-22608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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we can expect 5/100 tests will reject their Null Hypotheses ‘by chance’.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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is phenomenon is known as Error Rate Infl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ple Comparisons:</a:t>
            </a:r>
            <a:r>
              <a:rPr b="0" lang="en-GB" sz="2000" spc="-1" strike="noStrike">
                <a:solidFill>
                  <a:srgbClr val="515f7b"/>
                </a:solidFill>
                <a:latin typeface="Albertus Medium"/>
              </a:rPr>
              <a:t> Watch your Error Rate!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Various ways of thinking about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Relating to Post-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vs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Hypotheses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ison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a pair of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two or more conditions/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	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ype I Error Rat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Per Compari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PC) error rate (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 Type I Error on a single Compari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f210b"/>
                </a:solidFill>
                <a:uFillTx/>
                <a:latin typeface="Albertus Medium"/>
              </a:rPr>
              <a:t>Family-wise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FW)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bability of making at least one Type I error in a family (or set) of comparisons (also known as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xperiment-wis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error rat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C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W 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-(1-</a:t>
            </a:r>
            <a:r>
              <a:rPr b="0" lang="en-US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US" sz="1800" spc="-1" strike="noStrike" baseline="5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re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is the number of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Problem of Multiple Comparison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A numerical example of Error Rate infl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Suppose C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 significant tests with size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uppose all the null hypotheses are tr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probability (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*) of at least one significant result (Type I error) is bigge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1-(1-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i="1" lang="en-GB" sz="2000" spc="-1" strike="noStrike" baseline="30000">
                <a:solidFill>
                  <a:srgbClr val="8f210b"/>
                </a:solidFill>
                <a:latin typeface="Albertus Medium"/>
              </a:rPr>
              <a:t>C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lnSpc>
                <a:spcPct val="100000"/>
              </a:lnSpc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0.05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3" marL="1504080" indent="-214560">
              <a:spcBef>
                <a:spcPts val="4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=6 (Say, comparable to all contrasts between 4 condi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*=0.26 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074240" indent="-21456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o the Familywise Error Rate is 26%, though each individual test has Error Rate 5%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698400" indent="-26856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at is to be don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arious Approach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209320"/>
            <a:ext cx="777240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thogonal Contrasts or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nned Comparisons vs. Post Hoc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See also Boniface(1995, p.80) and Howell 1997 (p.350-1,354) for discussion of apriori test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7: Post-hoc tests, Multiple comparisons, Contrasts and handling Interac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09480" y="3733920"/>
            <a:ext cx="7391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What to do following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rthogonal Contrasts/Comparis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ypothesis drive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a prior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sually accepted that nominal significance can be followed (i.e. no need for adjustment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ationale: we are really interested in each comparison/contrast on its own merits. We have no wish to make pronouncements at the Family-wise level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(= Planned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 there is a rationale which identifies a small number of (sub)-hypotheses which led to the formulation and design of the experim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correspond to </a:t>
            </a: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Planned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or </a:t>
            </a:r>
            <a:r>
              <a:rPr b="0" i="1" lang="en-GB" sz="2800" spc="-1" strike="noStrike">
                <a:solidFill>
                  <a:srgbClr val="0099cc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o long as there is no overlap (non-orthogonality) between th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t Planned (no hypothesis)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so known as </a:t>
            </a:r>
            <a:r>
              <a:rPr b="0" i="1" lang="en-GB" sz="2400" spc="-1" strike="noStrike">
                <a:solidFill>
                  <a:srgbClr val="0099cc"/>
                </a:solidFill>
                <a:latin typeface="Albertus Medium"/>
              </a:rPr>
              <a:t>a posteriori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.g. Compare all pairs of mea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lanned Comparisons or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ic Idea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e variability explained by the Model is due to subjects being assigned to different groups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his variability can be broken down further to test specific hypotheses about ways in which groups might differ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break down the variance according to hypotheses made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 prior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efore the experiment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Rules When Choosing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dependent: contrasts must not interfere with each other (they must test unique hypotheses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approach compares one chunk of groups with another chun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t most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K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1: You should always end up with one less contrast than the number of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 to choose Contra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many experiments we have one or more control group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logic of control groups dictates that we expect them to be different from some of the groups that we’ve manipula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first contrast will often be to compare any control groups (chunk 1) with any experimental conditions (chunk 2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 1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Between subject experimen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vs. Experimen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Control - (Semantic+Lexical+Phobic)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(1,-1/3,-1/3,-1/3) or (3,-1,-1,-1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4000680" cy="22384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2"/>
          <a:stretch/>
        </p:blipFill>
        <p:spPr>
          <a:xfrm>
            <a:off x="4800600" y="3886200"/>
            <a:ext cx="31338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2 and 3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hobic versus Non-phobic priming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Semantic+Lexical)/2 - 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1,-2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mantic vs Lexic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 - 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1,-1,0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ne-way ANOVA contras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4854600" cy="141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1143000" y="4648320"/>
            <a:ext cx="6894360" cy="178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6879600" y="3657600"/>
            <a:ext cx="1706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 &gt; ave(S,L,P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ave(S,L)&gt;P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P,L do not diff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763640" y="3573360"/>
          <a:ext cx="3429000" cy="866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173160">
                <a:tc rowSpan="2"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trast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iming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ant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exical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obic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b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t" marL="59040" marR="590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040" rIns="5904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0" lang="en-US" sz="9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59040" marR="5904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10"/>
          <p:cNvSpPr/>
          <p:nvPr/>
        </p:nvSpPr>
        <p:spPr>
          <a:xfrm>
            <a:off x="3304800" y="44280"/>
            <a:ext cx="25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  <a:ea typeface="Calibri"/>
              </a:rPr>
              <a:t>Contrast Coefficients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773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GLM Univariate synta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96400" y="1981080"/>
            <a:ext cx="47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We get the syntax by pressing the ‘Paste’ button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6" name="Picture 10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87708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ims and Objectiv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y do we use follow-up tests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ifferent ways to follow up an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lanned vs. Post Hoc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asts and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hoosing and Coding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Output from contrast analysi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Text Box 1029"/>
          <p:cNvSpPr/>
          <p:nvPr/>
        </p:nvSpPr>
        <p:spPr>
          <a:xfrm>
            <a:off x="6400800" y="1981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Text Box 1030"/>
          <p:cNvSpPr/>
          <p:nvPr/>
        </p:nvSpPr>
        <p:spPr>
          <a:xfrm>
            <a:off x="6248520" y="20131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the world’s most user-friendly outpu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1"/>
          <a:stretch/>
        </p:blipFill>
        <p:spPr>
          <a:xfrm>
            <a:off x="1619280" y="1544760"/>
            <a:ext cx="360036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Rules for Coding Planned Contrast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1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oups coded with positive weights will be compared to groups coded with negative weigh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sum of weights for a contrast must be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not involved in a contrast, assign it a weight of zero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ore Rules …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4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a given contrast, the weights assigned to the group(s) in one chunk of variation should be equal to the number of groups in the opposite chunk of vari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ule 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a group is singled out in a comparison, then that group should not be used in any subsequent contrast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Partitioning the Varianc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24" name="Object 0"/>
          <p:cNvGraphicFramePr/>
          <p:nvPr/>
        </p:nvGraphicFramePr>
        <p:xfrm>
          <a:off x="1631880" y="2317680"/>
          <a:ext cx="587844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1880" y="2317680"/>
                    <a:ext cx="58784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Text Box 5"/>
          <p:cNvSpPr/>
          <p:nvPr/>
        </p:nvSpPr>
        <p:spPr>
          <a:xfrm>
            <a:off x="1504800" y="4572000"/>
            <a:ext cx="624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38.90 = 20.83 + 14.02 + 4.05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This additivity is a consequence of insisting on orthogonal contras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ly particular ‘off-the-shelf’ sets of contrasts are provided via the menu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can generate bespoke contrasts by using ‘Special’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via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synta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Deviation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average of preced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-2,0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1,1,-3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Simple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mpare each level with either the first or the la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-1,0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-1,0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1,0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1,0,0,-1)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Helmert’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and 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Repeated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level with mean of previous or subsequent lev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1,-1,0, 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2,-1,-1,0)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2,-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3,-1,-1,-1)  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(0,0,1,-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ontrasts in GLM (IV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lynomial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ivide up effects into Linear, Quadratic, Cubic …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ropriate when considering a </a:t>
            </a:r>
            <a:r>
              <a:rPr b="0" lang="en-GB" sz="2400" spc="-1" strike="noStrike">
                <a:solidFill>
                  <a:srgbClr val="0099cc"/>
                </a:solidFill>
                <a:latin typeface="Albertus Medium"/>
              </a:rPr>
              <a:t>Trend Analysis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over time or some other covariate facto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Non-orthogonal </a:t>
            </a:r>
            <a:r>
              <a:rPr b="0" i="1" lang="en-GB" sz="2800" spc="-1" strike="noStrike">
                <a:solidFill>
                  <a:srgbClr val="515f7b"/>
                </a:solidFill>
                <a:latin typeface="Albertus Medium"/>
              </a:rPr>
              <a:t>a priori</a:t>
            </a: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 contrast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o correct or not to correc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ypically, if the number of planned comparisons is small (up to K-1), Bonferroni type corrections are not appli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 Test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are each mean against all othe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 general terms they use a stricter criterion to accept an effect a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ence, control th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Familywis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error rat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lest example is the Bonferroni method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divide the desired Familywise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 by the number of comparisons c and us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</a:t>
            </a:r>
            <a:r>
              <a:rPr b="1" lang="en-GB" sz="2000" spc="-1" strike="noStrike">
                <a:solidFill>
                  <a:srgbClr val="8f210b"/>
                </a:solidFill>
                <a:latin typeface="Albertus Medium"/>
              </a:rPr>
              <a:t>c as the Bonferroni Corrected Per Comparison Error Rate </a:t>
            </a:r>
            <a:r>
              <a:rPr b="1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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2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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=1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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3 means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3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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ith 4 mean,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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c=6 then 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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32000" y="4458960"/>
            <a:ext cx="5097600" cy="239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desig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Grouping Factor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Priming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ependent variable: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umber correc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1143000" y="2133720"/>
          <a:ext cx="5429160" cy="198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5429160" cy="19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515f7b"/>
                </a:solidFill>
                <a:latin typeface="Albertus Medium"/>
              </a:rPr>
              <a:t>Post Hoc </a:t>
            </a: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Test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hat to includ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experimental treatments vs. a control treatm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pairwis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possible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se all need different handling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imple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Least Significant Difference: L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protect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isher's protected 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ly proceed if the omnibus F test is significan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s familywise error rate, but may miss out needles in the haystack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The significance of the overall F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 overall significant F test is not a pre-requisite for doing planned comparis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re still remains a considerable amount of confusion arising from earlier statements to the contrar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ot least in the minds of some review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onferroni formula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6437160" cy="41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eeking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familywise of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Bonferroni t or Dunn's tes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onferroni corre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servativ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Dunn-Sida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 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per-comparison = 1-(1-</a:t>
            </a:r>
            <a:r>
              <a:rPr b="0" lang="en-GB" sz="2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400" spc="-1" strike="noStrike" baseline="30000">
                <a:solidFill>
                  <a:srgbClr val="8f210b"/>
                </a:solidFill>
                <a:latin typeface="Albertus Medium"/>
              </a:rPr>
              <a:t>1/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mproved (exact, less conservative) Bonferroni correction which usually makes very little differe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5943600" y="3733920"/>
            <a:ext cx="30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E.g. to achieve FWER of 0.05 with all 6 possible comparisons of 4 means use 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*=0.05/6=0.0083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6095880" y="586728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*=1-(1-0.05)^(1/6)=0.0085</a:t>
            </a: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r controlling family-wise error rate with a set of comparisons less than all pairwis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artitions target family-wis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in different ways amongst the comparison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ulti-stage Bonferroni procedures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Holm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www.sagebrushpress.com/PEPI.htm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(adjustp.exe); also in 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rzelere and Mulaik procedu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be applied to subsets of correlation from a correlation matrix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pv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Limitations of Bonferroni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se procedures are based on ‘worst case’ assumption that all the tests are independe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ware SPSS’s ‘Bonferroni adjusted’ P val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Courier New"/>
                <a:hlinkClick r:id="rId1"/>
              </a:rPr>
              <a:t>http://imaging.mrc-cbu.cam.ac.uk/statswiki/FAQ/SpssBonferroni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f210b"/>
                </a:solidFill>
                <a:latin typeface="Albertus Medium"/>
              </a:rPr>
              <a:t>The proble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PSS has sought to preserve the ‘Look at the P Value to find out if the Test indicates the Null Hypothesis should be rejected’ routin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So SPSS quotes artificial ‘Bonferroni Adjusted P Values’ rather than advising of the appropriate Bonferroni Corrected </a:t>
            </a:r>
            <a:r>
              <a:rPr b="1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Can end up with oddities like P=1!!!!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f210b"/>
                </a:solidFill>
                <a:latin typeface="Albertus Medium"/>
              </a:rPr>
              <a:t>(if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</a:t>
            </a:r>
            <a:r>
              <a:rPr b="0" lang="en-GB" sz="20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&gt;1 then SPSS Bonferroni Adjusted P is set to 1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to do about SPSS and Bonferroni 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void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ith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LSD (ie pairwise t tests regardless of significant F)  and work out the Bonferroni corrected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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ourself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Sidak adjusted P’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1" name="Picture 1026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4190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Example: Priming experiment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95720" y="3257640"/>
            <a:ext cx="3810240" cy="17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NOVA: F(3,36)=6.06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P=0.002**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cc"/>
                </a:solidFill>
                <a:latin typeface="Albertus Medium"/>
              </a:rPr>
              <a:t>So what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380880" y="2209680"/>
            <a:ext cx="4983120" cy="2157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396720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619520" y="3352680"/>
            <a:ext cx="457200" cy="152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2486160" y="335772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2481120" y="3510000"/>
            <a:ext cx="457200" cy="152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368000" y="160020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One-way ANOV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Date Placeholder 1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2286000" y="325440"/>
            <a:ext cx="490860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tudentized Range Statistic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ased on dependence of the ‘range’ of a set of means on the number of means that are being consider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Expect a wider range with a larger number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ables of Q(r, k, 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r = number of means current rang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k = number of means overall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df = degrees of freedom in mean square error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0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wman-Keuls Procedur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Critical difference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is a function of r and k (and the degrees of freedom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ong tradition but some recent controvers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 'layered' test which adjusts the critical distance as a function of the number of means in the range being considered at each stag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nominal family-wise error rate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y not actually be achiev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4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Critical distance proced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ukey's Test: HS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onestly Significant Differenc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Unlike Newman-Keuls, only uses the largest (outmost) critical distance throughout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's Procedure: REGW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yan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 k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/r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inot and Gabriel: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 baseline="-25000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=1-(1- </a:t>
            </a:r>
            <a:r>
              <a:rPr b="0" lang="en-GB" sz="28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r/k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cheffé's 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ll possible comparison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ost conserv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Options in SPS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PSS has 18 types of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Post Hoc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Test!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1911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515f7b"/>
                </a:solidFill>
                <a:latin typeface="Albertus Medium"/>
              </a:rPr>
              <a:t>Post Hoc</a:t>
            </a:r>
            <a:r>
              <a:rPr b="0" lang="en-GB" sz="2400" spc="-1" strike="noStrike">
                <a:solidFill>
                  <a:srgbClr val="515f7b"/>
                </a:solidFill>
                <a:latin typeface="Albertus Medium"/>
              </a:rPr>
              <a:t> Tests: Recommendation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ield (2000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ssumptions met &amp; large number of comparisons: REGWQ or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 HSD;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also type ‘mc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Ramsey &amp; Ramsey (2008) suggest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Tukey-Kramer HSD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as Tukey HSD analogue for unequal group sizes). Can also type ‘mcneq’ at a Unix promp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afe Option &amp; few comparisons: </a:t>
            </a:r>
            <a:r>
              <a:rPr b="0" lang="en-GB" sz="2000" spc="-1" strike="noStrike">
                <a:solidFill>
                  <a:srgbClr val="0099cc"/>
                </a:solidFill>
                <a:latin typeface="Albertus Medium"/>
              </a:rPr>
              <a:t>Bonferroni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but note the problem with SPSS’s approach to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adjusted P values)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Sample Sizes: Gabriel’s (small), Hochberg’s GT2 (large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Unequal Variances: </a:t>
            </a:r>
            <a:r>
              <a:rPr b="0" lang="en-GB" sz="2000" spc="-1" strike="noStrike">
                <a:solidFill>
                  <a:srgbClr val="00b0f0"/>
                </a:solidFill>
                <a:latin typeface="Albertus Medium"/>
              </a:rPr>
              <a:t>Games-Howell.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spreadsheet programmes available for tests in blue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ontrol of 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alternative to controlling FW error rat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18960" indent="-31896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DR is the expected proportion of false rejections among the rejected null hypothes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we have rejected a set of R null hypotheses, and V of these are wrongly rejected, then the FDR= V/R (FDR=0 if R=0)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will know R but don’t know V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-2656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ood power – See Lix and Sajobi (2010) Psychological Methods who look at a related procedure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alse Discovery Rate (FDR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 alternative approach to the trade-off between Type I and Type II err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og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0720" indent="-27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 type I error becomes less serious the more the number of genuine effects there are in the family of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w being used in imaging and ERP stud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e </a:t>
            </a:r>
            <a:r>
              <a:rPr b="0" lang="en-US" sz="2800" spc="-1" strike="noStrike">
                <a:solidFill>
                  <a:srgbClr val="f32705"/>
                </a:solidFill>
                <a:latin typeface="Albertus Medium"/>
              </a:rPr>
              <a:t>http://imaging.mrc-cbu.cam.ac.uk/statswiki/FAQ/FD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for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PSS 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d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R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crip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DR Exampl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ppose we do 10 t-tests and observe their P values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21, 0.001, 0.017, 0.041, 0.005, 0.036, 0.042, 0.023, 0.07, 0.1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ort P values in ascending order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1, 0.005, 0.017, 0.021,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1, 0.042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Compare with 10 the prototypical P-values scaled to 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namely (1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2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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(10/10)</a:t>
            </a:r>
            <a:r>
              <a:rPr b="1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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0.005 0.010 0.015 0.020 0.025 0.030 0.035 0.040 0.045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Get the differences: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-0.004 -0.005  0.002  0.001 </a:t>
            </a:r>
            <a:r>
              <a:rPr b="1" lang="en-GB" sz="1600" spc="-1" strike="noStrike">
                <a:solidFill>
                  <a:srgbClr val="f32705"/>
                </a:solidFill>
                <a:latin typeface="Albertus Medium"/>
              </a:rPr>
              <a:t>-0.002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  0.006  0.006  0.002  0.025  0.050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largest observed P-value which is smaller than its corresponding prototype (last negative) is 0.02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1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17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41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05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36, 0.042, </a:t>
            </a:r>
            <a:r>
              <a:rPr b="1" lang="en-GB" sz="1600" spc="-1" strike="noStrike" u="sng">
                <a:solidFill>
                  <a:srgbClr val="8f210b"/>
                </a:solidFill>
                <a:uFillTx/>
                <a:latin typeface="Albertus Medium"/>
              </a:rPr>
              <a:t>0.023</a:t>
            </a:r>
            <a:r>
              <a:rPr b="1" lang="en-GB" sz="1600" spc="-1" strike="noStrike">
                <a:solidFill>
                  <a:srgbClr val="8f210b"/>
                </a:solidFill>
                <a:latin typeface="Albertus Medium"/>
              </a:rPr>
              <a:t>, 0.07, 0.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The five underlined tests for which P&lt;0.023 are declared significant with FDR </a:t>
            </a:r>
            <a:r>
              <a:rPr b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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hy Use Follow-Up Test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032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</a:t>
            </a:r>
            <a:r>
              <a:rPr b="0" i="1" lang="en-GB" sz="2800" spc="-1" strike="noStrike">
                <a:solidFill>
                  <a:srgbClr val="8f210b"/>
                </a:solidFill>
                <a:latin typeface="Albertus Medium"/>
              </a:rPr>
              <a:t>F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-ratio tells us only that the experiment had a positive outco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.e. group means were differ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8f210b"/>
                </a:solidFill>
                <a:uFillTx/>
                <a:latin typeface="Albertus Medium"/>
              </a:rPr>
              <a:t>or, more precisely, are not all equ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t does not tell us specifically which group mean differ from whi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We need additional tests to find out where the group differences li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Unpacking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omponents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oing sub-ANOVA or contra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.g. if factors A and B interact, then look at 2 by 2 ANOVA for a pair of levels of A combined with a pair of levels of B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imple Main Effec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y doing sub-ANOVAs followed up by multiple 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not use reverse argument to claim presence of interac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n use EMMEANS/COMPARE in SPS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 caveat on higher order interactio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tevens J (1999) Intermediate statistics: a modern approach. P.182 recommends using a Sidak corrected alpha for unpacking unplanned higher order interaction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number of comparisons increases with the order of interaction. May be so many possible comparisons that post-hoc testing becomes infeasibl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Problems of ‘sphericity’ re-emerg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eed for hand-calculations as SPSS has an attitude problem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TukeyKram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Within Subject Factors?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alculate new variables from within-subject contrasts and analyse them separatel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Extends the idea of doing lots of paired t-tes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In SPSS can be done by MMATRIX option in GLM using Syntax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14340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GLM and MMATRIX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355" name="Picture 5" descr=""/>
          <p:cNvPicPr/>
          <p:nvPr/>
        </p:nvPicPr>
        <p:blipFill>
          <a:blip r:embed="rId1"/>
          <a:stretch/>
        </p:blipFill>
        <p:spPr>
          <a:xfrm>
            <a:off x="433440" y="2017800"/>
            <a:ext cx="6043680" cy="24778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"/>
          <p:cNvPicPr/>
          <p:nvPr/>
        </p:nvPicPr>
        <p:blipFill>
          <a:blip r:embed="rId2"/>
          <a:stretch/>
        </p:blipFill>
        <p:spPr>
          <a:xfrm>
            <a:off x="3117960" y="4572000"/>
            <a:ext cx="57974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ext week Thursday 3rd December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544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Power Analysi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ndy Field: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http://www.cogs.sussex.ac.uk/users/andyf/teaching/statistics.htm 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1" name="Picture 12" descr="C:\Users\peterw\Desktop\ANDY F BOOK.jpg"/>
          <p:cNvPicPr/>
          <p:nvPr/>
        </p:nvPicPr>
        <p:blipFill>
          <a:blip r:embed="rId1"/>
          <a:stretch/>
        </p:blipFill>
        <p:spPr>
          <a:xfrm>
            <a:off x="5924520" y="275760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How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f210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A full toolkit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: Standard Errors of Differenc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: Multiple 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t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-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: Orthogonal Contrasts/Comparis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:</a:t>
            </a:r>
            <a:r>
              <a:rPr b="0" i="1" lang="en-GB" sz="2400" spc="-1" strike="noStrike">
                <a:solidFill>
                  <a:srgbClr val="8f210b"/>
                </a:solidFill>
                <a:latin typeface="Albertus Medium"/>
              </a:rPr>
              <a:t> Post Hoc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: Trend Analysi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8f210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: Unpack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A: Standard Errors are the basic Yardsticks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52280" y="2019240"/>
          <a:ext cx="380844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019240"/>
                    <a:ext cx="38084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6"/>
          <p:cNvSpPr/>
          <p:nvPr/>
        </p:nvSpPr>
        <p:spPr>
          <a:xfrm>
            <a:off x="3581280" y="2057400"/>
            <a:ext cx="529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subjects ANOVA with a constant number </a:t>
            </a:r>
            <a:r>
              <a:rPr b="0" i="1" lang="en-GB" sz="2000" spc="-1" strike="noStrike">
                <a:solidFill>
                  <a:srgbClr val="8f210b"/>
                </a:solidFill>
                <a:latin typeface="Albertus Medium"/>
              </a:rPr>
              <a:t>n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of subjects per cell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Mean (SEM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M  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= SE / </a:t>
            </a:r>
            <a:r>
              <a:rPr b="0" i="1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 n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(MS(Error)/</a:t>
            </a:r>
            <a:r>
              <a:rPr b="0" i="1" lang="en-GB" sz="1800" spc="-1" strike="noStrike">
                <a:solidFill>
                  <a:srgbClr val="8f210b"/>
                </a:solidFill>
                <a:latin typeface="Albertus Medium"/>
              </a:rPr>
              <a:t>n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EM =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(2.139/10)=0.46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N.B. we are using the same SEM for all mean based on (pooled) error term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tandard Error of the Difference of Mea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SED =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18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 SEM =0.6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E.g. Semantic-Phobic=6-5.1=0.9=1.38</a:t>
            </a:r>
            <a:r>
              <a:rPr b="0" lang="en-GB" sz="1600" spc="-1" strike="noStrike">
                <a:solidFill>
                  <a:srgbClr val="8f210b"/>
                </a:solidFill>
                <a:latin typeface="Symbol"/>
                <a:ea typeface="Symbol"/>
              </a:rPr>
              <a:t></a:t>
            </a: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SED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Albertus Medium"/>
              </a:rPr>
              <a:t>Unlikely to be significant 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4"/>
          <p:cNvSpPr/>
          <p:nvPr/>
        </p:nvSpPr>
        <p:spPr>
          <a:xfrm>
            <a:off x="91440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6 November 2015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A: Standard Errors from SP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8" name="Picture 1029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03840" cy="21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6-12-06T15:25:19Z</cp:lastPrinted>
  <dcterms:modified xsi:type="dcterms:W3CDTF">2015-06-25T09:40:25Z</dcterms:modified>
  <cp:revision>103</cp:revision>
  <dc:subject/>
  <dc:title>Aims and Objectives</dc:title>
</cp:coreProperties>
</file>